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4AD-DBD4-493D-91CC-C96AB024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3F9-3901-4416-8B89-6D587A0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39E-793E-4EEB-8697-84A93E49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31D-52FC-423B-B0E0-9917C86C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610-D999-4B4C-8F62-194B1690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C80-995B-4B68-A26A-5D3B4AB4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4A1-9C8B-40B3-9275-E4CD379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1BD-DEA8-4C54-BCE4-7F3FB048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043-B165-47CA-8625-6014146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2226-5534-4FAB-B69B-E6C5F58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33F-C921-497C-8B63-3D0D1B3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96B-272A-4683-ABE7-B4AE705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5888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C88B-B682-46D2-8848-CC4FE410CD82}" type="slidenum">
              <a:rPr b="0" lang="en-US" sz="1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75040" y="304920"/>
            <a:ext cx="4145040" cy="624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ore SI Prefix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161120" y="93600"/>
          <a:ext cx="1800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1120" y="93600"/>
                    <a:ext cx="1800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8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should be rounded off to the same number of significant digits as the measurement with the least number of significant digi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4 X 6.5 = 1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ct answer is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391520" y="585720"/>
          <a:ext cx="14335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585720"/>
                    <a:ext cx="1433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55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ientific notation - an expression of numbers as powers of 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93,000,000 in scientific 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3,000,000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5029200"/>
          <a:ext cx="221292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29200"/>
                    <a:ext cx="221292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cientific Notat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0.000 000 000 189 in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0.000 000 000 189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11960" y="152280"/>
          <a:ext cx="183204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1960" y="152280"/>
                    <a:ext cx="183204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Lab Report Format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0 pts-due next class meeting after lab is comple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06768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on completion of each experiment, you will turn in  a lab report using the following format.  The report will be referred to as a ppoc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urpose - usually one stat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 - Procedure - steps which will duplicate what you have done, you may use diagra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- Observation - includes data (use data table when possible) and calcul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 - Conclusion - what you learned, possible reasons for error, suggestions for improvement and opin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rived Un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unit - a unit obtained by combinations of fundamental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volume 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 = l X w X 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(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(cm) X (cm) X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29200" y="380880"/>
          <a:ext cx="39574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957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fill="hold"/>
                                  <p:tgtEl>
                                    <p:spTgt spid="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Density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- the mass per unit volume of a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= mass/vol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= m(g) / V(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(g/mL) = m(g) / V(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g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(g/L) = m(g) / V(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283360" y="14400"/>
          <a:ext cx="185400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3360" y="14400"/>
                    <a:ext cx="185400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Density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  Calculate the density of 10g of a material occupying a volume of 2.5mL.  (10 pt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m/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 = 10g, V = 2.5mL     5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10g / 2.5m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2 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 = 4       g/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pt)     (2pt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3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75440" y="0"/>
          <a:ext cx="116856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5440" y="0"/>
                    <a:ext cx="11685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80" dur="1" fill="hold"/>
                                  <p:tgtEl>
                                    <p:spTgt spid="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ccuracy and Precision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uracy - the nearness of a measurement to an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sion - the agreement between a set of measu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4100400"/>
          <a:ext cx="7848720" cy="25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100400"/>
                    <a:ext cx="7848720" cy="25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How do we measure accuracy?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E = ------------ X 10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- observ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- accepted va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Problem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se you performed an experiment and found the volume of a 10g sample of aluminum to be 3.5m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the density of the sample using your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cepted density of aluminum is 2.7g/mL.  Calculate the percentage error of your measur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761840"/>
            <a:ext cx="77630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rules are used to determine the number of 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onzero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All final zeros after the decimal point are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Zeros between two other significant digits are always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Zeros used solely for spacing the decimal point are not signific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5000" y="457200"/>
          <a:ext cx="316404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57200"/>
                    <a:ext cx="31640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perations With Significant Digit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nswer should be rounded off so that the final digit is in the same place as the leftmost uncertain dig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4.5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.44.......the correct answer is 39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86600" y="762120"/>
          <a:ext cx="152244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762120"/>
                    <a:ext cx="152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2" dur="1" fill="hold"/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3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4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25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7T13:46:12Z</dcterms:created>
  <dc:creator>Charles Allen Lee</dc:creator>
  <dc:description/>
  <dc:language>en-US</dc:language>
  <cp:lastModifiedBy>clee</cp:lastModifiedBy>
  <dcterms:modified xsi:type="dcterms:W3CDTF">2009-08-19T11:46:58Z</dcterms:modified>
  <cp:revision>21</cp:revision>
  <dc:subject/>
  <dc:title>Chemsitry I</dc:title>
</cp:coreProperties>
</file>